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BF9-A116-4436-A293-04C28573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6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5080"/>
            <a:ext cx="9066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C3E-DE8C-4BF3-875D-D3C0427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ED8-5211-44AD-8C86-E4C773B7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976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976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508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508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508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F28-2727-4C15-92AE-F0437028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9760"/>
            <a:ext cx="9066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153-68D4-45B0-AC41-CF72241D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6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A16-979A-4A12-A12C-78613CFD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4E4-291A-4BC6-AEB9-22C150E4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EBE-158C-4DAC-9CB7-0BBD487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62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3B4-A905-43C8-9D84-0101090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3C4-D01B-4391-9A3C-5CD2BA24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79E-A45C-460A-97A7-0A374CD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5080"/>
            <a:ext cx="9066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008-6379-4872-98F2-3A9497E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9760"/>
            <a:ext cx="9066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66CA2-FB09-4C97-AD3F-3462887A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3760" y="685800"/>
            <a:ext cx="5408640" cy="414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35000" y="5257800"/>
            <a:ext cx="8109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ac Repress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539640"/>
            <a:ext cx="5715000" cy="426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35000" y="5257800"/>
            <a:ext cx="8109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ac Repress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3240" y="647640"/>
            <a:ext cx="5429160" cy="346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00600" y="4489560"/>
            <a:ext cx="26892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591" t="14400" r="19200" b="8791"/>
          <a:stretch/>
        </p:blipFill>
        <p:spPr>
          <a:xfrm>
            <a:off x="3162240" y="507960"/>
            <a:ext cx="4114800" cy="4700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52560" y="5405400"/>
            <a:ext cx="47912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NA P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710" r="0" b="4939"/>
          <a:stretch/>
        </p:blipFill>
        <p:spPr>
          <a:xfrm>
            <a:off x="3090960" y="530280"/>
            <a:ext cx="4224240" cy="516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59120" y="5943600"/>
            <a:ext cx="48006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10:57Z</dcterms:created>
  <dc:creator>Jung Choi</dc:creator>
  <dc:description/>
  <dc:language>en-US</dc:language>
  <cp:lastModifiedBy/>
  <cp:revision>1</cp:revision>
  <dc:subject/>
  <dc:title/>
</cp:coreProperties>
</file>